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4886-BEBB-465D-8AC9-5F3ED8EA03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По итогам анализа достижения целевых показателей за 2008 год несмотря на то, что Тюменская область заняла первое ранговое место по социально-экономическому развитию, были разработаны мероприятия и поставлены задачи. Каждое муниципальное образование и лечебное учреждение Тюменской области внесло свой вклад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результате принятых мер в апреле месяце удалось  выполнить план по флюорографическим осмотрам населения на 14,8 % от годового плана, таким образом, выполнение плана флюорографических осмотров за январь-апрель составило 30 % от годового 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D19-D014-4919-9394-5EAA906E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CE0-47EA-481C-91D5-C6508220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C0F-1596-4CD1-BAF5-ED70B343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2B3-EEE3-4D90-867A-CFF33EEA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E0B-1DB6-4BB6-BA9B-BC48588B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109-622F-4BB7-961B-7018A231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CAC-21F3-4B81-B14C-18ECE3A9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14A-7C50-498F-B0EE-7317EE82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520-AC96-4E7B-8874-59AEAB30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71B-518C-422C-80A3-FDCB771B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788-67A5-41DA-9B6E-C3D90AAD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628-AE01-4DB4-B9D5-BAF19682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563F-CCAC-4D7E-A623-8E458437D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60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Муниципальное бюджетное учреждение здравоохранения «Центр ОВП (семейная медицина)» п. Мулымья Конди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234936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Функционирование МБУЗ «Центр ОВП (семейная медицина)» п. Мулымья Кондинского района в условиях одноканального финанс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76360" y="4581360"/>
            <a:ext cx="3382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лавный вр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А.П. Марта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т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E-mail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: м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ulamb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Телефон: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 834677553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9239400" cy="5205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намика объёмов финанс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549360"/>
          <a:ext cx="9144000" cy="63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49360"/>
                    <a:ext cx="9144000" cy="63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намика выполнения муниципального плана (задания) (ОМС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11280" y="1052640"/>
          <a:ext cx="8064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052640"/>
                    <a:ext cx="8064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дный анализ использования средств ОМС за 11 месяцев 201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дный анализ использования бюджетных средств за 11 месяцев 201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765000"/>
          <a:ext cx="9144000" cy="609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5000"/>
                    <a:ext cx="91440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а расходования средств ОМС, поступивших от СМК за 11 месяцев 2013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26920" y="1125360"/>
          <a:ext cx="7777440" cy="511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777744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156360" cy="9471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намика средней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156360" y="-19080"/>
            <a:ext cx="2987640" cy="121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39640" y="1268280"/>
          <a:ext cx="813600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268280"/>
                    <a:ext cx="8136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395280" y="1557360"/>
          <a:ext cx="8426520" cy="530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4265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2195640" y="981000"/>
            <a:ext cx="69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59280" y="333360"/>
            <a:ext cx="5760720" cy="9471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намика кредиторской задолж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2771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ализ отклонения предоставленных для оплаты счетов по категории потерь за 11 месяцев 201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48000" y="1268280"/>
            <a:ext cx="2160720" cy="50508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го поте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2133720"/>
            <a:ext cx="2592360" cy="16556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но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троль (МЭ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10 636,67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3640" y="2133720"/>
            <a:ext cx="2592360" cy="16556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ертиза (МЭ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61 827,39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7640" y="2133720"/>
            <a:ext cx="2665440" cy="165564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спертиза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ск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88 052,6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56000" y="1773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1" idx="3"/>
            <a:endCxn id="224" idx="0"/>
          </p:cNvCxnSpPr>
          <p:nvPr/>
        </p:nvCxnSpPr>
        <p:spPr>
          <a:xfrm>
            <a:off x="5508720" y="1521000"/>
            <a:ext cx="2053080" cy="61344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27" name=""/>
          <p:cNvCxnSpPr/>
          <p:nvPr/>
        </p:nvCxnSpPr>
        <p:spPr>
          <a:xfrm flipV="1" rot="10800000">
            <a:off x="1546920" y="1557000"/>
            <a:ext cx="1801080" cy="61344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8" name=""/>
          <p:cNvSpPr/>
          <p:nvPr/>
        </p:nvSpPr>
        <p:spPr>
          <a:xfrm>
            <a:off x="755640" y="4437000"/>
            <a:ext cx="7704000" cy="13136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ая сумма потерь -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560 516,6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ублей, что составляе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,64 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от выставленных к оплате счетов. Сумма потерь в 2013 году ниже суммы потерь в 2012 году  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,9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37893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37893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67640" y="37893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9280" y="549360"/>
            <a:ext cx="896472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оздать условия для экономической мотивации развития профилактического направления путем совершенствования структуры администрирования в лечебном учреждении и принятия управленческих решений на всех уровнях администр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Усилить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контроль соблюдения стандартов оказания медицинской помощ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3. Ускорить работу по заключению эффективных контрактов с медицинскими работниками, а имен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Разработат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 включить в дополнительные соглашения индикаторы и критерии эффективности деятельности работников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3.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 Разработать и внедрить критерии для стимулирования организац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дравоохранения через фонд стимулирования,  (премирование проводить по итогам полугодия и  года по разработанным критериям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Доработать планы мероприятий  по снижению смертности, определить ответственных за исполнение.  Осуществлять полный анализ, который должен носить системный характер, принимать  своевременные управленческие ре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 Ускорить информатизацию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структурных подразделений учреждения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широким применением новых    технолог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Формировать  управленческу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команду  с  единым  видением ц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 стремлением к образованию и самообразо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Формировать корпоративную ответственность за достижение стратегических ц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должить анализ эффективности затрат, минимизировать неэффективные затра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Основные задачи на  201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3141720"/>
            <a:ext cx="9144000" cy="10083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141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141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3311640" cy="2708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6046920" y="4149720"/>
            <a:ext cx="3097080" cy="2708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348000" y="4149720"/>
            <a:ext cx="2664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здравоохранения МБУЗ «Центр ОВП (семейная медицина)» п. Мулымья Кондинского района ХМАО-Юг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907920"/>
            <a:ext cx="6048360" cy="720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БУЗ «Центр ОВП (семейная медиц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. Мулы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3068640"/>
            <a:ext cx="3168720" cy="93672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лиал МБУЗ «Цен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ВП (семейная медицина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. Полови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77080" y="4292640"/>
            <a:ext cx="2016000" cy="93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С 5 ко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2 см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0720" y="4292640"/>
            <a:ext cx="2017440" cy="93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мбулат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пос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м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5300640"/>
            <a:ext cx="2016000" cy="1297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ко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руглосуточ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аллиатив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мощ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й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стринского ух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5300640"/>
            <a:ext cx="2016000" cy="129708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оматологиче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бинет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ртопед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1916280"/>
            <a:ext cx="2017440" cy="9363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мбулат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 посе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м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3280" y="1916280"/>
            <a:ext cx="2016360" cy="9363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С 10 ко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2 см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860640"/>
            <a:ext cx="2017440" cy="648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 Чантыр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2924280"/>
            <a:ext cx="2017440" cy="57600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 Уш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869000"/>
            <a:ext cx="2017440" cy="647640"/>
          </a:xfrm>
          <a:prstGeom prst="rect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. Назар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5661000"/>
            <a:ext cx="3671640" cy="936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дицинская помощь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селённых пунктах Шаим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пра оказывается выездны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то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1628640"/>
            <a:ext cx="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32000" y="1628640"/>
            <a:ext cx="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2" idx="1"/>
            <a:endCxn id="63" idx="1"/>
          </p:cNvCxnSpPr>
          <p:nvPr/>
        </p:nvCxnSpPr>
        <p:spPr>
          <a:xfrm flipV="1" rot="10800000">
            <a:off x="323280" y="1267200"/>
            <a:ext cx="1296000" cy="4861800"/>
          </a:xfrm>
          <a:prstGeom prst="bentConnector3">
            <a:avLst>
              <a:gd name="adj1" fmla="val 123645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0" y="3213000"/>
            <a:ext cx="3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14972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15772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/>
          <p:nvPr/>
        </p:nvCxnSpPr>
        <p:spPr>
          <a:xfrm>
            <a:off x="7667280" y="1196640"/>
            <a:ext cx="794520" cy="2269080"/>
          </a:xfrm>
          <a:prstGeom prst="bentConnector3">
            <a:avLst>
              <a:gd name="adj1" fmla="val 129193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1"/>
            <a:endCxn id="57" idx="1"/>
          </p:cNvCxnSpPr>
          <p:nvPr/>
        </p:nvCxnSpPr>
        <p:spPr>
          <a:xfrm flipV="1" rot="10800000">
            <a:off x="4500000" y="3535920"/>
            <a:ext cx="792720" cy="2413800"/>
          </a:xfrm>
          <a:prstGeom prst="bentConnector3">
            <a:avLst>
              <a:gd name="adj1" fmla="val 12885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3" idx="3"/>
            <a:endCxn id="56" idx="3"/>
          </p:cNvCxnSpPr>
          <p:nvPr/>
        </p:nvCxnSpPr>
        <p:spPr>
          <a:xfrm>
            <a:off x="8461080" y="3536640"/>
            <a:ext cx="432360" cy="2413800"/>
          </a:xfrm>
          <a:prstGeom prst="bentConnector3">
            <a:avLst>
              <a:gd name="adj1" fmla="val 152916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7667640" y="4005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4005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ответствие количества физических лиц долженствующему количеству физических лиц в соответствии с «Порядками оказания медицинской помощ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95280" y="1700280"/>
          <a:ext cx="828036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82803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а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88200" y="60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052640"/>
          <a:ext cx="4244760" cy="355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052640"/>
                    <a:ext cx="4244760" cy="35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4716360" y="3186000"/>
          <a:ext cx="442764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186000"/>
                    <a:ext cx="44276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508720" y="46530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6,4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486900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3,6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намика демографических показателей за 9 месяцев 2013 года в сравнении с аналогичным периодом 2011-2012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11280" y="1413000"/>
          <a:ext cx="828180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82818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казатели, характеризующие эффективность функционирования системы здравоохранения МБУЗ «ЦОП (семейная медицина)» п. Мулымья за 9 месяцев 2013 года в сравнении в аналогичным периодом 2011-2012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84280"/>
          <a:ext cx="914400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 посещений</a:t>
            </a:r>
            <a:br>
              <a:rPr sz="23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5255400">
            <a:off x="2222280" y="2799720"/>
            <a:ext cx="576360" cy="4492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ccccc"/>
              </a:gs>
              <a:gs pos="100000">
                <a:srgbClr val="808080"/>
              </a:gs>
            </a:gsLst>
            <a:lin ang="160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rot="16243800">
            <a:off x="6219720" y="2736720"/>
            <a:ext cx="576360" cy="4492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ccccc"/>
              </a:gs>
              <a:gs pos="100000">
                <a:srgbClr val="808080"/>
              </a:gs>
            </a:gsLst>
            <a:lin ang="54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176000" y="4581360"/>
            <a:ext cx="671400" cy="384480"/>
          </a:xfrm>
          <a:prstGeom prst="upArrow">
            <a:avLst>
              <a:gd name="adj1" fmla="val 51676"/>
              <a:gd name="adj2" fmla="val 100000"/>
            </a:avLst>
          </a:prstGeom>
          <a:gradFill rotWithShape="0">
            <a:gsLst>
              <a:gs pos="0">
                <a:srgbClr val="cccccc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52560" y="1521000"/>
            <a:ext cx="3522960" cy="30114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51280" y="1700280"/>
            <a:ext cx="3119400" cy="2666880"/>
          </a:xfrm>
          <a:prstGeom prst="ellipse">
            <a:avLst/>
          </a:prstGeom>
          <a:gradFill rotWithShape="0">
            <a:gsLst>
              <a:gs pos="0">
                <a:srgbClr val="a1a1a1"/>
              </a:gs>
              <a:gs pos="50000">
                <a:srgbClr val="ffffff"/>
              </a:gs>
              <a:gs pos="100000">
                <a:srgbClr val="a1a1a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7040" y="1849320"/>
            <a:ext cx="2752560" cy="23558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00999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7040" y="1849320"/>
            <a:ext cx="2752560" cy="23558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000000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17760" y="2003400"/>
            <a:ext cx="2390760" cy="2048040"/>
          </a:xfrm>
          <a:prstGeom prst="ellipse">
            <a:avLst/>
          </a:prstGeom>
          <a:gradFill rotWithShape="0">
            <a:gsLst>
              <a:gs pos="0">
                <a:srgbClr val="005252"/>
              </a:gs>
              <a:gs pos="50000">
                <a:srgbClr val="009999"/>
              </a:gs>
              <a:gs pos="100000">
                <a:srgbClr val="00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989000"/>
            <a:ext cx="2390760" cy="2048040"/>
          </a:xfrm>
          <a:prstGeom prst="ellipse">
            <a:avLst/>
          </a:prstGeom>
          <a:gradFill rotWithShape="0">
            <a:gsLst>
              <a:gs pos="0">
                <a:srgbClr val="7b7b00"/>
              </a:gs>
              <a:gs pos="50000">
                <a:srgbClr val="ffff00"/>
              </a:gs>
              <a:gs pos="100000">
                <a:srgbClr val="7b7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680" y="2205000"/>
            <a:ext cx="1947960" cy="2232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058840"/>
            <a:ext cx="2052360" cy="2449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91120" y="2673360"/>
            <a:ext cx="239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ра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семейная медиц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24000" y="4941720"/>
            <a:ext cx="4248360" cy="7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c6e55"/>
              </a:gs>
              <a:gs pos="50000">
                <a:srgbClr val="c8f0ba"/>
              </a:gs>
              <a:gs pos="100000">
                <a:srgbClr val="5c6e5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0880" y="3208320"/>
            <a:ext cx="218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акт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2,7 %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04040" y="306864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д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3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494172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ечебно-диагнос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724280"/>
            <a:ext cx="212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анный показатель является оптимальным для обеспечения профилактической направленности первичного зв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670720"/>
            <a:ext cx="432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анный показатель выше предусмотренного муниципальным заданием на 12,5 %, что свидетельствует об отсутствии согласования муниципального плана (задания) с руководителем Л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07280" y="4757760"/>
            <a:ext cx="27367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анный показатель ниже предусмотренного муниципальным  заданием на 25,7 %что свидетельствует об отсутствии долженствующих объёмов оказания медицинской помощи пациентам с заболеваниями, препятствующими самостоятельному обращению в Л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324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уктура видов оказания медицинской помощи насел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060640"/>
            <a:ext cx="172728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птим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ровен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оспит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,8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2060640"/>
            <a:ext cx="158292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птима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числ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ойко-д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,3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 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2205000"/>
            <a:ext cx="1476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соко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число случае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казания  неотлож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едицинск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66 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00 на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836640"/>
            <a:ext cx="280800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иды медицинской помощи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птимальными значениями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существления эффектив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ходования финанс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51640" y="836640"/>
            <a:ext cx="28796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иды медицинской помощи с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тклонениями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птимальных значений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существления эффектив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асходования финанс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2852640"/>
            <a:ext cx="27352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роприятия по достиж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тимальных значе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51280" y="4221000"/>
            <a:ext cx="14414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существ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онитор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труктуры оказ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отложн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5280" y="4797360"/>
            <a:ext cx="172872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существл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истемного подхо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 орган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филактических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лечебных мероприят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5661000"/>
            <a:ext cx="1727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страивание  кадров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литики  в систем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вичного зве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3645000"/>
            <a:ext cx="2160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1280" y="2133720"/>
            <a:ext cx="3024360" cy="151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508640"/>
            <a:ext cx="316872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сутствие системн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дхода в организ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филактичес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мощи посёлка Половинка до присоедин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6360" y="5661000"/>
            <a:ext cx="2232000" cy="119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существлени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Высокого количеств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Случаев оказания неотложно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едицинской помощи в связ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с отсутствием системного подхода в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рганизации профилактически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и лечебных мероприятий филиал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. Половинка до присоедине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 МБУЗ «Центр ВОП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0920" y="422100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661000"/>
            <a:ext cx="1152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229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950080"/>
            <a:ext cx="28764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5013360"/>
            <a:ext cx="1800000" cy="1197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существление еди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истемы оказ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едицинской помощи 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ответствии с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дарта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3645000"/>
            <a:ext cx="208764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вышение эффектив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боты первичного звен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лучшение доступности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вышение каче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казания профилактичес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17" idx="3"/>
            <a:endCxn id="115" idx="0"/>
          </p:cNvCxnSpPr>
          <p:nvPr/>
        </p:nvCxnSpPr>
        <p:spPr>
          <a:xfrm flipH="1">
            <a:off x="8404920" y="1449000"/>
            <a:ext cx="126360" cy="756360"/>
          </a:xfrm>
          <a:prstGeom prst="bentConnector4">
            <a:avLst>
              <a:gd name="adj1" fmla="val -182000"/>
              <a:gd name="adj2" fmla="val 90333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4716360" y="3500280"/>
            <a:ext cx="0" cy="7207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4000" y="3500280"/>
            <a:ext cx="0" cy="15130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3416400"/>
            <a:ext cx="625320" cy="2197080"/>
          </a:xfrm>
          <a:custGeom>
            <a:avLst/>
            <a:gdLst/>
            <a:ahLst/>
            <a:rect l="l" t="t" r="r" b="b"/>
            <a:pathLst>
              <a:path w="394" h="1384">
                <a:moveTo>
                  <a:pt x="58" y="0"/>
                </a:moveTo>
                <a:lnTo>
                  <a:pt x="376" y="8"/>
                </a:lnTo>
                <a:lnTo>
                  <a:pt x="394" y="784"/>
                </a:lnTo>
                <a:lnTo>
                  <a:pt x="0" y="792"/>
                </a:lnTo>
                <a:lnTo>
                  <a:pt x="8" y="1384"/>
                </a:lnTo>
                <a:lnTo>
                  <a:pt x="18" y="1360"/>
                </a:ln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88120" y="3251160"/>
            <a:ext cx="1152720" cy="1549440"/>
          </a:xfrm>
          <a:custGeom>
            <a:avLst/>
            <a:gdLst/>
            <a:ahLst/>
            <a:rect l="l" t="t" r="r" b="b"/>
            <a:pathLst>
              <a:path w="726" h="976">
                <a:moveTo>
                  <a:pt x="0" y="0"/>
                </a:moveTo>
                <a:lnTo>
                  <a:pt x="264" y="0"/>
                </a:lnTo>
                <a:lnTo>
                  <a:pt x="632" y="520"/>
                </a:lnTo>
                <a:lnTo>
                  <a:pt x="704" y="944"/>
                </a:lnTo>
                <a:lnTo>
                  <a:pt x="726" y="939"/>
                </a:lnTo>
                <a:lnTo>
                  <a:pt x="680" y="976"/>
                </a:lnTo>
              </a:path>
            </a:pathLst>
          </a:custGeom>
          <a:noFill/>
          <a:ln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16" idx="1"/>
          </p:cNvCxnSpPr>
          <p:nvPr/>
        </p:nvCxnSpPr>
        <p:spPr>
          <a:xfrm flipV="1" rot="10800000">
            <a:off x="178560" y="1375200"/>
            <a:ext cx="145440" cy="6865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6" idx="3"/>
          </p:cNvCxnSpPr>
          <p:nvPr/>
        </p:nvCxnSpPr>
        <p:spPr>
          <a:xfrm>
            <a:off x="3132000" y="1375920"/>
            <a:ext cx="145440" cy="648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851280" y="1197000"/>
            <a:ext cx="1655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сокое числ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се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на од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жителя – 6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289320"/>
            <a:ext cx="1473120" cy="2387520"/>
          </a:xfrm>
          <a:custGeom>
            <a:avLst/>
            <a:gdLst/>
            <a:ahLst/>
            <a:rect l="l" t="t" r="r" b="b"/>
            <a:pathLst>
              <a:path w="928" h="1504">
                <a:moveTo>
                  <a:pt x="0" y="1504"/>
                </a:moveTo>
                <a:lnTo>
                  <a:pt x="0" y="1400"/>
                </a:lnTo>
                <a:lnTo>
                  <a:pt x="384" y="1400"/>
                </a:lnTo>
                <a:lnTo>
                  <a:pt x="384" y="8"/>
                </a:lnTo>
                <a:lnTo>
                  <a:pt x="928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3429000"/>
            <a:ext cx="0" cy="2160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16" idx="0"/>
            <a:endCxn id="139" idx="0"/>
          </p:cNvCxnSpPr>
          <p:nvPr/>
        </p:nvCxnSpPr>
        <p:spPr>
          <a:xfrm flipH="1" rot="16200000">
            <a:off x="3024000" y="-460080"/>
            <a:ext cx="361080" cy="2952000"/>
          </a:xfrm>
          <a:prstGeom prst="bentConnector3">
            <a:avLst>
              <a:gd name="adj1" fmla="val -3652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5000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6600"/>
          </a:xfrm>
          <a:prstGeom prst="rect">
            <a:avLst/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администрирования показателей объёмов профилактической помощи жит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765000"/>
            <a:ext cx="208908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ан (зада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56000" y="765000"/>
            <a:ext cx="19447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авный вр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907920"/>
            <a:ext cx="28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268280"/>
            <a:ext cx="525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рганизовать и обеспечить контроль за исполнением объёмов и каче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казания профилактической помощи населени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5" idx="3"/>
            <a:endCxn id="147" idx="0"/>
          </p:cNvCxnSpPr>
          <p:nvPr/>
        </p:nvCxnSpPr>
        <p:spPr>
          <a:xfrm flipH="1">
            <a:off x="3168360" y="945720"/>
            <a:ext cx="1332720" cy="322920"/>
          </a:xfrm>
          <a:prstGeom prst="bentConnector4">
            <a:avLst>
              <a:gd name="adj1" fmla="val -17022"/>
              <a:gd name="adj2" fmla="val 7723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1042920" y="1052640"/>
            <a:ext cx="201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ратегический уровен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2852640"/>
            <a:ext cx="2880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517"/>
              </a:gs>
              <a:gs pos="50000">
                <a:srgbClr val="ccff33"/>
              </a:gs>
              <a:gs pos="100000">
                <a:srgbClr val="5e751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участковые врачи терапевты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участковые врачи педиатры  ВОП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медицинские сёстр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участковых врачей педиатров 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ерапевтов, фельдшера ФАПо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989000"/>
            <a:ext cx="496872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меститель главного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80000" y="17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9280" y="3645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актический уровен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4360" y="2133720"/>
            <a:ext cx="302436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беспечить выполнение поставлен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2924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3645000"/>
            <a:ext cx="2447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Результаты выпол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а 11 месяцев 2013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20000" y="3500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20000" y="2492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перативный уровен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2852640"/>
            <a:ext cx="194472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люорограф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смотры населе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лан 2950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полнение-2285,т.е. 77,5 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 годового пла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2852640"/>
            <a:ext cx="172872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филактическ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ививки- выполн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90 % от годового пла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2852640"/>
            <a:ext cx="172692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% оказания неотложн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едицинск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ольным с обостре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хроническ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заболеваний – 31,4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менее 40 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866920" y="3789360"/>
            <a:ext cx="50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7" idx="2"/>
            <a:endCxn id="161" idx="2"/>
          </p:cNvCxnSpPr>
          <p:nvPr/>
        </p:nvCxnSpPr>
        <p:spPr>
          <a:xfrm flipV="1" rot="16200000">
            <a:off x="5292360" y="1772640"/>
            <a:ext cx="72000" cy="4536360"/>
          </a:xfrm>
          <a:prstGeom prst="bentConnector3">
            <a:avLst>
              <a:gd name="adj1" fmla="val -31959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332000" y="2565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/>
          <p:nvPr/>
        </p:nvCxnSpPr>
        <p:spPr>
          <a:xfrm flipH="1" rot="16200000">
            <a:off x="4784760" y="-1537200"/>
            <a:ext cx="434160" cy="7485840"/>
          </a:xfrm>
          <a:prstGeom prst="bentConnector4">
            <a:avLst>
              <a:gd name="adj1" fmla="val -14273"/>
              <a:gd name="adj2" fmla="val 10158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5292720" y="227664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48360" y="2492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256536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9280" y="4365720"/>
            <a:ext cx="2448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нализ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целевые показате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остигнуты. Осуществлять контрол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филактических осмотров лиц, 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бследованных два и более год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4365720"/>
            <a:ext cx="2808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нализ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целевые показатели достигну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300640"/>
            <a:ext cx="26272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воды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смотреть организа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филактических осмотров для лиц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е обследованных два и более л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5300640"/>
            <a:ext cx="273672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воды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ежемесячно провод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орректировку план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80000" y="4365720"/>
            <a:ext cx="2735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нализ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целевые показател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остигну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5950080"/>
            <a:ext cx="244800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546"/>
              </a:gs>
              <a:gs pos="50000">
                <a:srgbClr val="ccff99"/>
              </a:gs>
              <a:gs pos="100000">
                <a:srgbClr val="5e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ры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величение кратности подворовы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бходов, проведение мероприятий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аправленных на повыш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отивации населения к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филактическим осмотр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47" idx="1"/>
          </p:cNvCxnSpPr>
          <p:nvPr/>
        </p:nvCxnSpPr>
        <p:spPr>
          <a:xfrm flipV="1" rot="10800000">
            <a:off x="250200" y="1519920"/>
            <a:ext cx="289440" cy="756360"/>
          </a:xfrm>
          <a:prstGeom prst="bentConnector3">
            <a:avLst>
              <a:gd name="adj1" fmla="val 17907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5207040" y="2577960"/>
            <a:ext cx="736560" cy="1765440"/>
          </a:xfrm>
          <a:custGeom>
            <a:avLst/>
            <a:gdLst/>
            <a:ahLst/>
            <a:rect l="l" t="t" r="r" b="b"/>
            <a:pathLst>
              <a:path w="464" h="1112">
                <a:moveTo>
                  <a:pt x="8" y="0"/>
                </a:moveTo>
                <a:lnTo>
                  <a:pt x="16" y="120"/>
                </a:lnTo>
                <a:lnTo>
                  <a:pt x="0" y="136"/>
                </a:lnTo>
                <a:lnTo>
                  <a:pt x="448" y="144"/>
                </a:lnTo>
                <a:lnTo>
                  <a:pt x="447" y="229"/>
                </a:lnTo>
                <a:lnTo>
                  <a:pt x="464" y="1104"/>
                </a:lnTo>
                <a:lnTo>
                  <a:pt x="464" y="11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565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57" idx="2"/>
            <a:endCxn id="160" idx="2"/>
          </p:cNvCxnSpPr>
          <p:nvPr/>
        </p:nvCxnSpPr>
        <p:spPr>
          <a:xfrm flipV="1" rot="16200000">
            <a:off x="4338360" y="818280"/>
            <a:ext cx="72000" cy="6444720"/>
          </a:xfrm>
          <a:prstGeom prst="bentConnector3">
            <a:avLst>
              <a:gd name="adj1" fmla="val -21758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63360" y="2451240"/>
            <a:ext cx="241560" cy="1904760"/>
          </a:xfrm>
          <a:custGeom>
            <a:avLst/>
            <a:gdLst/>
            <a:ahLst/>
            <a:rect l="l" t="t" r="r" b="b"/>
            <a:pathLst>
              <a:path w="152" h="1200">
                <a:moveTo>
                  <a:pt x="96" y="0"/>
                </a:moveTo>
                <a:lnTo>
                  <a:pt x="0" y="0"/>
                </a:lnTo>
                <a:lnTo>
                  <a:pt x="0" y="968"/>
                </a:lnTo>
                <a:lnTo>
                  <a:pt x="152" y="120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5640" y="2637000"/>
            <a:ext cx="0" cy="172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3280" y="5950080"/>
            <a:ext cx="252072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546"/>
              </a:gs>
              <a:gs pos="50000">
                <a:srgbClr val="ccff99"/>
              </a:gs>
              <a:gs pos="100000">
                <a:srgbClr val="5e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ры: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усилить контроль з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ланированием и качеством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роведения профилактически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прививо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515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7280" y="515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3280" y="5805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5805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867280" y="5992920"/>
            <a:ext cx="28814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75"/>
              </a:gs>
              <a:gs pos="50000">
                <a:srgbClr val="99ccff"/>
              </a:gs>
              <a:gs pos="100000">
                <a:srgbClr val="465e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гласительная комиссия ЛП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оведение сведений до руководите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б анализе, выводах, мероприятия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 улучшению ситуации, в том числе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утём применения штрафных санкц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/>
          <p:nvPr/>
        </p:nvCxnSpPr>
        <p:spPr>
          <a:xfrm flipH="1" rot="10800000">
            <a:off x="250560" y="6092280"/>
            <a:ext cx="7058520" cy="584640"/>
          </a:xfrm>
          <a:prstGeom prst="bentConnector4">
            <a:avLst>
              <a:gd name="adj1" fmla="val -2341"/>
              <a:gd name="adj2" fmla="val 139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5364000" y="645336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7" idx="3"/>
            <a:endCxn id="145" idx="3"/>
          </p:cNvCxnSpPr>
          <p:nvPr/>
        </p:nvCxnSpPr>
        <p:spPr>
          <a:xfrm flipH="1" flipV="1">
            <a:off x="4500720" y="945360"/>
            <a:ext cx="4248360" cy="5481000"/>
          </a:xfrm>
          <a:prstGeom prst="bentConnector3">
            <a:avLst>
              <a:gd name="adj1" fmla="val -5338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6516720" y="1125360"/>
            <a:ext cx="237636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правленческое ре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0" y="90792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правленческий уровен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1125360"/>
            <a:ext cx="208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5229360"/>
            <a:ext cx="32414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воды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ероприятия, направленн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 дальнейшее снижение показателя - повыш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чества «Д»-наблюдения за пациента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  Хроническими заболевания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74" idx="3"/>
          </p:cNvCxnSpPr>
          <p:nvPr/>
        </p:nvCxnSpPr>
        <p:spPr>
          <a:xfrm>
            <a:off x="8327520" y="4762440"/>
            <a:ext cx="361080" cy="3960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15:19:42Z</dcterms:created>
  <dc:creator>андрей</dc:creator>
  <dc:description/>
  <dc:language>en-US</dc:language>
  <cp:lastModifiedBy>Admin</cp:lastModifiedBy>
  <dcterms:modified xsi:type="dcterms:W3CDTF">2009-01-02T16:27:08Z</dcterms:modified>
  <cp:revision>78</cp:revision>
  <dc:subject/>
  <dc:title>Слайд 1</dc:title>
</cp:coreProperties>
</file>